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AE9-98DD-4CA5-809A-CF5FF452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BA6-4452-4F8F-866D-0A72E14F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4A3-53F2-4547-B79B-3E837910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32F-4FE1-4081-A4D0-416CC044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4061-3CD0-4231-995E-4D04C233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05F8-9424-4818-9948-E65BD83C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EBCA-9F99-45B2-9349-90D9F063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14B6-5160-4BE2-ABB4-A8F57764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00DB-953A-4EF8-A31C-FCB7F50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33D1-3907-430F-A015-0DA341B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5CA8-6D57-4AF3-9299-F6AD95B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EFA-C6BF-4531-8FCB-D8E26DF3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C4AF-A91E-460A-9403-91D7C71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EEB1-B0CB-42FD-B3F0-17525E02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B09B-0723-492B-A984-F4FDE319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FD9C-D404-41B2-A7CF-5C230B14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A34E-635E-4989-8882-ACDB90E4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603-7FE9-4591-91A2-D0B8A044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F6D-00D9-4320-ADCA-F87C756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CD0-A1E9-435F-A345-EDCC222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127-96B1-4B92-9FD6-05A95E1D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153-3E45-4118-9E9D-B4EB0ED3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C36-6CB6-4354-A110-B0E55C92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4F2-0AB2-4C9B-BCFA-E118213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284E-0EB1-4782-AABC-6075E01C7583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5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1943-787D-4882-8BD9-29A195FFCFFF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5000" spc="-1" strike="noStrike">
                <a:solidFill>
                  <a:srgbClr val="ffff00"/>
                </a:solidFill>
                <a:latin typeface="Garamond"/>
              </a:rPr>
              <a:t>Go Tell The Good News”</a:t>
            </a:r>
            <a:br>
              <a:rPr sz="5000"/>
            </a:br>
            <a:endParaRPr b="1" lang="en-US" sz="5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rter 11, Lesson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hurch Is Scatte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ts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ges 40-4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2D1-4894-4FB0-B54B-091E08228235}" type="slidenum">
              <a:t>1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eter and John Return to Jerusalem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5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preaching the word of the Lord, they returned home but, on the way..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inued to preach the gospel in cities of the Samarit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8AB-F054-4F32-8506-133CBD01E6E7}" type="slidenum">
              <a:t>10</a:t>
            </a:fld>
          </a:p>
        </p:txBody>
      </p:sp>
    </p:spTree>
  </p:cSld>
  <p:transition spd="med"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The Ethiopian Eunuch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6-40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hiopia, a country south of Egy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ably dark-skin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unique Jewish prosely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nted as a Jew in relig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not participate in public wor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d great authority from his gover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easurer for Queen Cand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andace seemed to be a title passed from one queen to another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returning home - on the road to Ga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414-23FB-40A2-A103-E968E9637CA5}" type="slidenum">
              <a:t>11</a:t>
            </a:fld>
          </a:p>
        </p:txBody>
      </p:sp>
    </p:spTree>
  </p:cSld>
  <p:transition spd="med"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hilip Preaches To The Eunuch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6-40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angel told Philip to go south toward Ga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directed him to the eunu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nuch was reading from Isaiah 53:7-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d not understand the prophe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ked who Isaiah was talking abo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preached Jesus to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he saw water he said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prevents me from being baptized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believe Jesus Christ is the Son of God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6CC-D65E-4EFA-8E1A-FAFDD89D0FD2}" type="slidenum">
              <a:t>12</a:t>
            </a:fld>
          </a:p>
        </p:txBody>
      </p:sp>
    </p:spTree>
  </p:cSld>
  <p:transition spd="med"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The Eunuch Was Baptized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ct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8:26-40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nuch stopped the chario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and Philip went down into the wa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unuch was baptized,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nt his way rejoic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caught away Philip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found at Azo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d pre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nt to Caesar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nuch took the message to Ethiop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F28-6888-4262-A6F8-37BD9426E84A}" type="slidenum">
              <a:t>13</a:t>
            </a:fld>
          </a:p>
        </p:txBody>
      </p:sp>
    </p:spTree>
  </p:cSld>
  <p:transition spd="med"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The Good News Now Spreads To...</a:t>
            </a:r>
            <a:endParaRPr b="1" lang="en-US" sz="3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hiop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ember Acts 1:8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..you shall be My witnesses both in Jerusalem, and in all Judea and Samaria, and even to the remotest part of the earth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6E9-BACE-4C2F-8B81-4DC16C3AA5C2}" type="slidenum">
              <a:t>14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Severe Persecution Arose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1-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en put to death for preaching the tru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young man named Saul introduc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Jewish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reed heartily with the action of the counc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nessed the stoning of Step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ader of the persec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nt house to house putting believers in pri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ecution designed to destroy the chu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d a scattering of the disciples to the rest of Judea and 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40C-6810-4DF2-952E-1B90BA35CC38}" type="slidenum">
              <a:t>2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048120" y="2971800"/>
            <a:ext cx="9144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343400"/>
            <a:ext cx="9144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4114800"/>
            <a:ext cx="60948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752480"/>
            <a:ext cx="25146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ember Acts 1:8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..you shall be My witnesses both in Jerusalem, and in all Judea and Samaria, and even to the remotest part of the eart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0FA-01E9-4D53-8A2E-A959FF642EE7}" type="slidenum">
              <a:t>3</a:t>
            </a:fld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hilip Preaches In Samaria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4-2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se scattered preached the wo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, one of the seven, went to 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postles had laid their hands upon him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cts 6: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ed miracles – cast out unclean spirits, healed the l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ople rejoic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met Simon, the sorcer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on had amazed the people with trickery for a long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0FE-2F02-42C5-8CDA-6EB08AE1A3AF}" type="slidenum">
              <a:t>4</a:t>
            </a:fld>
          </a:p>
        </p:txBody>
      </p: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Simon Believes The Word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9-13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called, “The Great Power of God” by the people – he claimed to be a great 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preach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kingdom of God, an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ame of Jesus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n and women, including Simon, believed and were baptiz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was amazed at the miracles Philip perfor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52D-6281-431A-93F4-237C39E09D96}" type="slidenum">
              <a:t>5</a:t>
            </a:fld>
          </a:p>
        </p:txBody>
      </p:sp>
    </p:spTree>
  </p:cSld>
  <p:transition spd="med"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eter and John Visit Samaria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14-2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apostles sent them to 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son – to impart the Holy Spirit upon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id their hands on many that were baptized and prayed the Spirit would come upon th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wanted the authority to impart the Holy Spirit to ot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fered them money for the privile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told the gift of God cannot be bought with mon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D2F-7D7A-47AC-8520-4A51DD07CEAE}" type="slidenum">
              <a:t>6</a:t>
            </a:fld>
          </a:p>
        </p:txBody>
      </p:sp>
    </p:spTree>
  </p:cSld>
  <p:transition spd="med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eter and John Visit Samaria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0-2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chastised Sim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on had an attitude (heart) probl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ld to repent and to pray to God that his intentions (sin) may be forgiv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repented and asked them to pray for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EA3-0535-436B-BE1B-177319A017FE}" type="slidenum">
              <a:t>7</a:t>
            </a:fld>
          </a:p>
        </p:txBody>
      </p:sp>
    </p:spTree>
  </p:cSld>
  <p:transition spd="med"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Lessons To Be Learned...</a:t>
            </a: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ing baptized did not automatically bring the ability to work mirac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preached and worked miracles but did not have authority to lay his hands on others to impart the Spir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was given b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ven (God or Chri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uke 9:1; Luke 10:17; Acts 2:4; Acts 9:17; 10:44-4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ying on of the apostles’ h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s 6:6, 8:17, 19:6; 2 Tim. 1: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3AF-AC97-4854-95D5-B7C182628A5A}" type="slidenum">
              <a:t>8</a:t>
            </a:fld>
          </a:p>
        </p:txBody>
      </p:sp>
    </p:spTree>
  </p:cSld>
  <p:transition spd="med"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Lessons To Be Learned...</a:t>
            </a: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was given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liver the message of G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rm the message with sig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ember that these people did not have the complete word of God as we do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sinned after being baptiz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ld to repent and pray for forg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9EE-7FC7-4D98-8C38-D40BADFF1577}" type="slidenum">
              <a:t>9</a:t>
            </a:fld>
          </a:p>
        </p:txBody>
      </p:sp>
    </p:spTree>
  </p:cSld>
  <p:transition spd="med"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5:47:12Z</dcterms:created>
  <dc:creator>Frank D Vines</dc:creator>
  <dc:description/>
  <dc:language>en-US</dc:language>
  <cp:lastModifiedBy>Frank D Vines</cp:lastModifiedBy>
  <dcterms:modified xsi:type="dcterms:W3CDTF">2007-01-28T05:43:33Z</dcterms:modified>
  <cp:revision>18</cp:revision>
  <dc:subject/>
  <dc:title>“Go Tell The Good News” The Life of Christ</dc:title>
</cp:coreProperties>
</file>